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%D8%B7%D9%84%D9%82%D8%A9%20%D9%86%D8%A7%D8%B1.wav" ContentType="audio/x-wav"/>
  <Override PartName="/ppt/media/%D9%82%D9%86%D8%A8%D9%84%D8%A9.wav" ContentType="audio/x-wav"/>
  <Override PartName="/ppt/media/applause.wav" ContentType="audio/x-wav"/>
  <Override PartName="/ppt/media/000.wav" ContentType="audio/x-wav"/>
  <Override PartName="/ppt/media/555.WAV" ContentType="audio/x-wav"/>
  <Override PartName="/ppt/media/glass.wav" ContentType="audio/x-wav"/>
  <Override PartName="/ppt/media/666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8016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833-4550-4F94-A226-C0496276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17C-2E48-4629-8F45-2184CF17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D72-04A0-460D-BE9A-01585EFB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896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924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868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3896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924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5D0-CC0F-4A8E-A824-2350F160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0AB-1138-4391-AE12-1EADE691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C80-B90A-47F9-A42F-07ADE5DD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4FB-54B7-4741-9604-20AD9050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DD7-A17F-45C7-91D7-605FE777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8680" y="812520"/>
            <a:ext cx="108842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E91-52F9-4BCF-9E13-3E065002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71F-D06E-4285-B77D-EF5BB4E4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F0C-523F-4114-8F7C-42FE27BB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7FE-2DD1-4E36-85D3-C29A0C8A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58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5080" y="8331120"/>
            <a:ext cx="4051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5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8D93-AAA0-4B3C-BC61-906776864FB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666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audio" Target="../media/camera.wav"/><Relationship Id="rId4" Type="http://schemas.openxmlformats.org/officeDocument/2006/relationships/audio" Target="../media/&#1591;&#1604;&#1602;&#1577;%20&#1606;&#1575;&#1585;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00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555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10944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</a:rPr>
              <a:t>مسابقة جدول الض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295280" y="289548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8610480" y="304812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830592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0666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47242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830592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47242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0666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830592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47242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10666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8200" y="152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ان ال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درسة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مين الأس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47720" y="8101080"/>
            <a:ext cx="9068040" cy="20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عداد معلم المادة :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مد ياسين</a:t>
            </a:r>
            <a:r>
              <a:rPr b="1" lang="ar-SA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JO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رف كنعان عو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830592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47242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10666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8272440" y="658800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4745160" y="651672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1066680" y="65530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/>
    <p:sndAc>
      <p:stSnd>
        <p:snd r:embed="rId18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5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3505320"/>
            <a:ext cx="10210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Classic"/>
              </a:rPr>
              <a:t>الاجابة صحيحة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7162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7696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666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3" name="camera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efefe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1040" dir="792084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  <p:sndAc>
      <p:stSnd>
        <p:snd r:embed="rId4" name="camera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2742480"/>
            <a:ext cx="11049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0" spc="-1" strike="noStrike">
                <a:solidFill>
                  <a:srgbClr val="3333cc"/>
                </a:solidFill>
                <a:latin typeface="Times New Roman"/>
                <a:cs typeface="Mohammad Annoktah"/>
              </a:rPr>
              <a:t>ممتاز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7315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1" name="000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76520" y="2286000"/>
            <a:ext cx="103629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 </a:t>
            </a: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Al-Anbobi"/>
              </a:rPr>
              <a:t>خطأ</a:t>
            </a:r>
            <a:r>
              <a:rPr b="1" lang="ar-SA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Times New Roman"/>
                <a:cs typeface="Al-Mujahed Al-Anbobi"/>
              </a:rPr>
              <a:t>حاول مرة أخر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8001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22860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848720" y="79246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8000"/>
                </a:solidFill>
                <a:latin typeface="Traditional Arabic"/>
              </a:rPr>
              <a:t>عودة</a:t>
            </a:r>
            <a:endParaRPr b="1" lang="en-US" sz="2400" spc="1" strike="noStrike">
              <a:ln w="0">
                <a:noFill/>
              </a:ln>
              <a:solidFill>
                <a:srgbClr val="008000"/>
              </a:solidFill>
              <a:latin typeface="Traditional Arabic"/>
              <a:ea typeface="Traditional Arabic"/>
            </a:endParaRPr>
          </a:p>
        </p:txBody>
      </p:sp>
    </p:spTree>
  </p:cSld>
  <p:transition advTm="2000">
    <p:random/>
    <p:sndAc>
      <p:stSnd>
        <p:snd r:embed="rId1" name="glas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200400"/>
            <a:ext cx="11734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أحسنت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6781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7924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555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4" name="camera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02:02:38Z</dcterms:created>
  <dc:creator>IBRAHIM ABDOH</dc:creator>
  <dc:description/>
  <dc:language>en-US</dc:language>
  <cp:lastModifiedBy>user</cp:lastModifiedBy>
  <dcterms:modified xsi:type="dcterms:W3CDTF">2009-10-10T18:50:12Z</dcterms:modified>
  <cp:revision>1290</cp:revision>
  <dc:subject/>
  <dc:title>لا يوجد عنوان للشريحة</dc:title>
</cp:coreProperties>
</file>